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66432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8089-1ACE-4E1A-952B-C8FD8EF982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5084D-162E-4994-B779-99235BFDD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4EB4-CE0B-43C5-B2DE-73C5EB06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DA62-625C-4BC9-AE6C-B7B940F74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99B3-BCB7-4C3E-99A7-31088E8D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DCFF7-4669-4D1D-8481-C5F6543DC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6000-07FA-436F-A466-A955AA986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83CE-6886-473C-909D-5F114850B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C66D9-0118-4378-8B47-82B23FB6E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B8A7C-C0B0-4690-BAB6-E1A2A50D2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BF0A-DB8D-4644-8294-0C773D386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DBE87-F5AA-4705-A48E-7EAB01BEC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97597-2FD8-4FFF-9DD2-BCD38AEAF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00000" y="1989000"/>
            <a:ext cx="73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4360" y="24210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A779-1BC0-4F8C-A3A3-F3E293ABF9D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468360" y="2349000"/>
            <a:ext cx="8229600" cy="26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’azione dei Fondi negli Stati membri assume la forma di </a:t>
            </a:r>
            <a:r>
              <a:rPr b="1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rogrammi operativi all’interno del quadro di riferimento strategico nazionale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gni programma operativo copre un periodo tra il 1 gennaio 2007 e il 31 dicembre 2013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n programma operativo copre solo uno dei tre obiettivi comunitari, salvo deroga concordata tra lo Stato membro e la Commission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parazione e approvazione dei programmi operativ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7D4E9-9781-4576-B08E-C6219900B2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rea di intervento programmazione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1867320"/>
            <a:ext cx="8136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Decade la precedente suddivisione del territorio a livello intraregionale di cui al previgente art. 4 del regolamento (CE) 1260/99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L’area di intervento è determinata a livello regiona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(e copre l’intero territorio della Regione interessata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sulla base dell’elenco presentato dallo Stato alla Commissione Europea (art.6 reg. (CE) 1083/2006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9615F-0616-46A0-87E1-FE7C52E5051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755280" y="620280"/>
            <a:ext cx="77058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ovi Obiettiv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6000" y="1268280"/>
            <a:ext cx="44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grammazione 2000 -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48000" y="2492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63640" y="1844640"/>
            <a:ext cx="3095640" cy="1270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uovere lo sviluppo e l’adeguamento strutturale delle Regioni che presentano ritardi nello svilup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40360" y="126828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mazione 2007 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63640" y="3357720"/>
            <a:ext cx="30956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vorire la riconversione economica e sociale delle zone con difficoltà struttu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63640" y="4724280"/>
            <a:ext cx="3095640" cy="1057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o 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avorire l’ammodernamento delle politiche  e dei sistemi di istruzione, formazione e 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48000" y="393228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40360" y="4221000"/>
            <a:ext cx="936360" cy="936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472000" y="184464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nvergenz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ccelerare la convergenza degli Stati membri e regioni, in ritardo di sviluppo, migliorando le condizioni di cres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472000" y="3357720"/>
            <a:ext cx="34560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mpetitività regionale e 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fforzare la competitività e le attrattive delle regioni e l’occu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5040360" y="4508640"/>
            <a:ext cx="3887640" cy="1606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Obiettiv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Arial"/>
              </a:rPr>
              <a:t>Cooperazione territoriale euro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Rafforzare la cooperazione transfrontaliera e transnazionale mediante iniziative congiunte locali e reg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stituisce tutti i vari programmi INTERE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44D8-AA86-43F8-9074-74E87000414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12360" y="620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uove Autorit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87280" y="1413000"/>
            <a:ext cx="38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Programmazione 2000 -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48000" y="263700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3280" y="1989000"/>
            <a:ext cx="3456000" cy="1080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utorità di Gest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d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posta alla gestione di un programma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5040360" y="141300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grammazione 2007 -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03280" y="3284640"/>
            <a:ext cx="3456000" cy="1304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utorità di Paga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Ad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posta a elaborare e presentare  le richieste di pagamento e di ricevere i pagamenti dalla Commissione Europe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03280" y="4869000"/>
            <a:ext cx="3456000" cy="141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Servizio di Controllo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Svolge attività di controllo sul sistema di gestione e sull’attendibilità delle domande finali di pagamento inoltrate alla Commissione Europe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(Reg.  CE 438/2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248000" y="3933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48000" y="5373720"/>
            <a:ext cx="7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472000" y="1989000"/>
            <a:ext cx="345600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Autorità di Gest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(AdG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Preposta alla gestione di un programma comunitar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72000" y="328464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Autorità di Certific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400" spc="-1" strike="noStrike" u="sng">
                <a:solidFill>
                  <a:srgbClr val="ffffff"/>
                </a:solidFill>
                <a:uFillTx/>
                <a:latin typeface="Arial"/>
              </a:rPr>
              <a:t>(AdC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Preposta a certificare  le dichiarazioni di spesa e le domande di pagamento prima del loro invio alla Commission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472000" y="4869000"/>
            <a:ext cx="3456000" cy="1281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utorità di Audi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(Ad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sponsabile  della verifica dell’efficace funzionamento del sistema di gestione  e di cont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87C2-CD1C-433B-A1C0-D0FB8CE377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ON E P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Programmi Oper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QSN si attua tramite i Programmi Operativi, documenti che declinano le priorità strategiche per settori e territo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el ciclo di programmazione 2007-2013 i 66 PO sono "monofondo", ciascun PO sarà cofinanziato da un solo Fondo strutturale. Ci sono dunque 42 PO finanziati dal Fondo Europeo di Sviluppo Regionale (FESR) e 24 PO finanziati dal Fondo Sociale Europeo (FS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base alle tematiche affrontate e ai soggetti istituzionali competenti, i PO possono esse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nazionali (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in settori con particolari esigenze di integrazione a livello nazionale, la cui Autorità di Gestione è una Amministrazione Centrale (5 FESR, 3 F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ali (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PO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: multisettoriali, riferiti alle singole regioni gestiti dalle Amministrazioni Regionali. Per ciascuna Regione c’è un POR FESR e un POR FSE (21 FESR, 21 FS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330E-D6F0-45CE-8028-B03949FE9D8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PON E PO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terregionali (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OIN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: su tematiche in cui risulta particolarmente efficace un’azione fortemente coordinata fra Regioni che consenta di cogliere economie di scala e di scopo nell’attuazione degli interventi (Energia, Attrattori culturali naturali e turismo); gestiti dalle Regioni, con la partecipazione di centri di competenza nazionale o Amministrazioni centrali (2 FESR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PO – ai fini della realizzazione degli interventi – si riferiscono ai tre Obiettivi della politica di coesione 2007/2013 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R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mpetitività Regionale e Occupazione) sono compresi i 33 PO che riguardano tutte le regioni del Centro Nord – incluse le Province Autonome di Bolzano e Trento - e le tre regioni del Mezzogiorno: Abruzzo, Molise e Sardegn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ONV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nvergenza), sono compresi i 19 PO che riguardano le rimanenti regioni del Mezzogiorno: Basilicata, Calabria, Campania, Puglia e Sicilia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otto la sigla </a:t>
            </a: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CT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Cooperazione territoriale europea) sono compresi i 7 PO della cooperazione transfrontaliera, di cui 6 hanno come Autorità di Gestione una Regione italiana, i 4 PO della cooperazione transnazionale, tutti con Autorità di Gestione non Italiana, il PO cofinanziato dal FESR e dallo strumento di preadesione (IPA), i 2 PO cofinanziati dal FESR e dallo strumento di prossimità e di vicinato (ENPI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5D849-85AB-4FEB-9057-85A43D459C7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76360" y="162864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.158 Trat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76360" y="3789360"/>
            <a:ext cx="619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rt.159 Tratt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360" y="2060640"/>
            <a:ext cx="8136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 promuovere uno sviluppo armonioso dell'insieme della Comunità, questa sviluppa e prosegue la propria azione intesa a realizzare il rafforzamento della sua coesione economica e socia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particolare la Comunità mira a ridurre il divario tra i livelli di sviluppo delle varie regioni ed il ritardo delle regioni meno favorite o insulari, comprese le zone rural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4076640"/>
            <a:ext cx="7921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li Stati membri conducono la loro politica economica e la coordinano anche al fine di raggiungere gli obiettivi dell'articolo 158. L'elaborazione e l'attuazione delle politiche e azioni comunitarie, nonché l'attuazione del mercato interno tengono conto degli obiettivi dell'articolo 158 e concorrono alla loro realizzazione. La Comunità appoggia questa realizzazione anche con l'azione che essa svolge attraverso fondi a finalità strutturale (Fondo europeo agricolo di orientamento e di garanzia, sezione « orientamento », Fondo sociale europeo, Fondo europeo di sviluppo regionale), la Banca europea per gli investimenti e gli altri strumenti finanziari esistent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C23D-6557-450B-83AD-ACFBF19139B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08000" y="2205000"/>
            <a:ext cx="8640720" cy="26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Artt.158 e 159 del Tratta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1080/2006 dd. 5 luglio 2006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regolamento FERS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n.1081/2006 dd. 5 luglio 2006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(regolamento FS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Regolamento (CE) n.1083/2006 dd.11 luglio 2006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regolamento gener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1197000"/>
            <a:ext cx="77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nti normativ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55640" y="371628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uovo approccio comunitario ai fondi struttural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95280" y="4508640"/>
            <a:ext cx="792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recepimento delle priorità comunitarie per uno sviluppo sostenibile, definite nel Consiglio europeo di Lisbona del 23 e 24 marzo 2000 e del Consiglio europeo di Goteborg del 15 e 16 giugno 20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La politica di coesione inquadra l’intervento dei Fondi strutturali non più quale atto aggiuntivo ed addizionale rispetto alle politiche di sviluppo nazionali ma quale elemento integrato, con le stesse,  preposto a garantire un ottimale e coordinato utilizzo di tali Fondi all’interno di un quadro strategico di sviluppo nazionale d’insieme che tenga conto tanto dei finanziamenti nazionali quanto di quelli europei in una visione integrata e priva di sovrapposizioni o di carenz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60B4-55E2-4381-ACFF-A2A24EEC085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50436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CIPI DI INTERVENTO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03280" y="1844640"/>
            <a:ext cx="640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OMPLEMENTARIETÀ, COERENZA E CONFORMIT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042920" y="2924280"/>
            <a:ext cx="676908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 Fondi intervengono a complemento delle azioni nazionali, regionali e locali, integrandovi le priorità della Comunità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a Commissione e gli Stati membri vigilano sulla coerenza dell’intervento dei Fondi e di quello degli Stati membri con le azioni, le politiche e le priorità della Comunità. La coerenza, in particolare, si fissa negli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rientamenti strategici della Comunità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, nel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quadro di riferimento strategico nazional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1" i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nei programmi operativ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econdo il seguente schem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84720" y="2276640"/>
            <a:ext cx="0" cy="504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539640" y="4869000"/>
            <a:ext cx="1584360" cy="1152360"/>
            <a:chOff x="539640" y="4869000"/>
            <a:chExt cx="1584360" cy="1152360"/>
          </a:xfrm>
        </p:grpSpPr>
        <p:sp>
          <p:nvSpPr>
            <p:cNvPr id="59" name=""/>
            <p:cNvSpPr/>
            <p:nvPr/>
          </p:nvSpPr>
          <p:spPr>
            <a:xfrm>
              <a:off x="539640" y="508464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rientamenti strategici comunit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11280" y="4869000"/>
              <a:ext cx="1441440" cy="115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2195640" y="5445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276720" y="5157720"/>
            <a:ext cx="194472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dro strategico nazion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435640" y="544500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6804000" y="4508640"/>
            <a:ext cx="1944720" cy="1873080"/>
            <a:chOff x="6804000" y="4508640"/>
            <a:chExt cx="1944720" cy="1873080"/>
          </a:xfrm>
        </p:grpSpPr>
        <p:sp>
          <p:nvSpPr>
            <p:cNvPr id="65" name=""/>
            <p:cNvSpPr/>
            <p:nvPr/>
          </p:nvSpPr>
          <p:spPr>
            <a:xfrm>
              <a:off x="6877080" y="5157720"/>
              <a:ext cx="1728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cumento di programm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6804000" y="4508640"/>
              <a:ext cx="1944720" cy="187308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D2A0-9A12-4ED2-8CDF-0911574ADBF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cesso di intervento dei vari documenti all’interno della programmazione 2007-201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843280" y="3429000"/>
            <a:ext cx="2590560" cy="93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quadramento degli obiettivi comunitari all’interno di quadro di riferimento strategico nazion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QS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71640" y="4581360"/>
            <a:ext cx="274176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ealizzazione di un Documento Unitario regionale per la realizzazione della politica di Coes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340000" y="5589720"/>
            <a:ext cx="3657600" cy="685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rogramma Operativ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tilizzo coordinato ed integrato dei Finanziame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comunitari, nazionali, regional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132000" y="1844640"/>
            <a:ext cx="1944720" cy="1439640"/>
            <a:chOff x="3132000" y="1844640"/>
            <a:chExt cx="1944720" cy="1439640"/>
          </a:xfrm>
        </p:grpSpPr>
        <p:sp>
          <p:nvSpPr>
            <p:cNvPr id="73" name=""/>
            <p:cNvSpPr/>
            <p:nvPr/>
          </p:nvSpPr>
          <p:spPr>
            <a:xfrm>
              <a:off x="3205080" y="2205000"/>
              <a:ext cx="1828800" cy="79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Orientamenti strategici e definizione obiettivi Comunitari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3132000" y="1844640"/>
              <a:ext cx="1944720" cy="143964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7D865-CE10-4CFE-A5FA-6F0EBB918B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472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68360" y="1557360"/>
            <a:ext cx="7991280" cy="41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iorità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rendere più attraenti gli Stati membri, le regioni e le città migliorando l’accessibilità, garantendo una qualità e un livello adeguati di servizi e tutelando l’ambi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promuovere l’innovazione, l’imprenditorialità e lo sviluppo dell’economia della conoscenza mediante lo sviluppo della ricerca e dell’innovazione, comprese le nuove tecnologie dell’informazione e della comunicazione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reare nuovi e migliori posti di lavoro attirando un maggior numero di persone verso il mercato del lavoro o l’attività imprenditoriale, migliorando l’adattabilità dei lavoratori e delle imprese e aumentando gli investimenti nel capitale uma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La strategia di Lisbon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rinnovata per la crescita e l’occupazione e i programmi nazionali di riforma </a:t>
            </a:r>
            <a:r>
              <a:rPr b="0" lang="en-US" sz="1600" spc="-1" strike="noStrike" u="sng">
                <a:solidFill>
                  <a:srgbClr val="ffffff"/>
                </a:solidFill>
                <a:uFillTx/>
                <a:latin typeface="Arial"/>
              </a:rPr>
              <a:t>sottolineano il ruolo dell’ambiente per la crescita, la competitività e l’occup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ccorre tener conto della protezione dell’ambiente nella preparazione dei programmi e dei progetti volti a promuovere lo sviluppo sostenib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403280" y="1125360"/>
            <a:ext cx="64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Orientamenti strategici comuni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79280" y="6237360"/>
            <a:ext cx="7777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municazione al Consiglio europeo di primavera - “Lavorare insieme per la crescita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occupazione - Il rilancio della strategia di Lisbona”.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 (2005) 24, 2.2.2005.11807/06 DT/gm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C9BF-FC16-4AF4-AE9C-B4212BBCF2CF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1979640" y="33336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981000"/>
            <a:ext cx="7705440" cy="72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iorit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1628640"/>
            <a:ext cx="7704360" cy="180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Il quadro delle priorità di finanziamento dei Fondi Comunitari viene definito secondo un rapporto gerarchico  da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Regolamento comunitario 1083/2006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Quadro Strategico Nazionale (QS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art.27 Reg. (CE) 1083 /200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564000" y="342900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orità comunitar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39640" y="3789360"/>
            <a:ext cx="2303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ndere le Regioni e l’Europa  più attraenti per gli investim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932360" y="3860640"/>
            <a:ext cx="20876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uovere l’innovazione e la conoscenza a favore della cresc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916360" y="386064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ovi e migliori posti di lavor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948360" y="3860640"/>
            <a:ext cx="180036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mensione territo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rale/urban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492360" y="4581360"/>
            <a:ext cx="22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iorità naz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68360" y="5011560"/>
            <a:ext cx="2087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iglioramento e valorizzazione delle risorse um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340000" y="4869000"/>
            <a:ext cx="23032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mozione e valorizzazione della ricerca  della innovazione per la competitiv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716360" y="4940280"/>
            <a:ext cx="1656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o sostenibile ed efficiente delle risorse ambient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45080" y="5011560"/>
            <a:ext cx="20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alorizzazione delle risorse natur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6920" y="5877000"/>
            <a:ext cx="144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ttività territori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411280" y="6093000"/>
            <a:ext cx="158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i e collegamen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11640" y="5805360"/>
            <a:ext cx="1584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trazione investimenti internaz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12000" y="5805360"/>
            <a:ext cx="129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236000" y="5734080"/>
            <a:ext cx="1728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ità sistemi produtti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508720" y="6237360"/>
            <a:ext cx="2592360" cy="5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etitività cit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viluppo urbano sostenib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FED53-C352-4144-8264-76A3EBC04E6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75528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 Unitario di Programmazione della Politica regionale di Coe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844640"/>
            <a:ext cx="70581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e disposizioni del Quadro Strategico Nazionale (QSN) prevedono che ogni Regione adotti un documento nel quale declinare  la strategia specifica di politica regionale  di coesione all’interno della propria programmazione gener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348000" y="2852640"/>
            <a:ext cx="2519280" cy="580680"/>
          </a:xfrm>
          <a:prstGeom prst="rect">
            <a:avLst/>
          </a:prstGeom>
          <a:solidFill>
            <a:srgbClr val="ff99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ocumento Unitario di program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4000" y="5013360"/>
            <a:ext cx="2232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generali comunitari con riferimento alle priorità definite dal QS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3564000" y="551664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politica region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780000" y="6021360"/>
            <a:ext cx="1942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dicazione strumenti di Attu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68360" y="6021360"/>
            <a:ext cx="2087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iettivi specifici comunitari reg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372360" y="515772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artenari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4000" y="4076640"/>
            <a:ext cx="23763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adro di programmazione finanziaria unitaria delle risor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708360" y="4221000"/>
            <a:ext cx="20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orità regiona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4000" y="5084640"/>
            <a:ext cx="23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nazional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372360" y="5950080"/>
            <a:ext cx="237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Comunitari politica agricol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300720" y="4076640"/>
            <a:ext cx="2376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ndi strutturali della politica di coes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492360" y="350028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ie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2107-00D9-4C51-9E05-896BDC2B4EB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504360" y="1052640"/>
            <a:ext cx="77058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rmini presentazione documenti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835280" y="260280"/>
            <a:ext cx="51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rogrammazione comunitaria 2007-201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395280" y="2133720"/>
            <a:ext cx="1584360" cy="1152360"/>
            <a:chOff x="395280" y="2133720"/>
            <a:chExt cx="1584360" cy="1152360"/>
          </a:xfrm>
        </p:grpSpPr>
        <p:sp>
          <p:nvSpPr>
            <p:cNvPr id="117" name=""/>
            <p:cNvSpPr/>
            <p:nvPr/>
          </p:nvSpPr>
          <p:spPr>
            <a:xfrm>
              <a:off x="395280" y="2349360"/>
              <a:ext cx="158436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Orientamenti strategici comunitari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66920" y="2133720"/>
              <a:ext cx="1441440" cy="1152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2195640" y="2637000"/>
            <a:ext cx="792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716280"/>
            <a:ext cx="1944360" cy="581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Quadro strategico naziona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771640" y="4005360"/>
            <a:ext cx="122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395280" y="4581360"/>
            <a:ext cx="1944720" cy="1873080"/>
            <a:chOff x="395280" y="4581360"/>
            <a:chExt cx="1944720" cy="1873080"/>
          </a:xfrm>
        </p:grpSpPr>
        <p:sp>
          <p:nvSpPr>
            <p:cNvPr id="123" name=""/>
            <p:cNvSpPr/>
            <p:nvPr/>
          </p:nvSpPr>
          <p:spPr>
            <a:xfrm>
              <a:off x="468360" y="5230440"/>
              <a:ext cx="1728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Documento di programmazion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95280" y="4581360"/>
              <a:ext cx="1944720" cy="1873080"/>
            </a:xfrm>
            <a:prstGeom prst="diamond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" name=""/>
          <p:cNvSpPr/>
          <p:nvPr/>
        </p:nvSpPr>
        <p:spPr>
          <a:xfrm>
            <a:off x="3564000" y="1989000"/>
            <a:ext cx="3456000" cy="12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o il 1 febbrai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temine massim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 La commissione ha approvato gli orientamenti i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ottobre 2006 -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284720" y="3716280"/>
            <a:ext cx="3456000" cy="7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tro 5 mesi dall’adozione degli orientamenti strategici comunita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6 marz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059280" y="5516640"/>
            <a:ext cx="15840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932360" y="5157720"/>
            <a:ext cx="3456000" cy="12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el più breve tempo possibile e comunque non oltre 5 mesi dall’adozione degli orientamenti strategici comunitari ovvero entro il 6 marzo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8CE6-3CD4-4DF7-8F27-A3D7AAD0D04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31T12:48:50Z</dcterms:created>
  <dc:creator>utente</dc:creator>
  <dc:description/>
  <dc:language>en-US</dc:language>
  <cp:lastModifiedBy>giampiero bianchini</cp:lastModifiedBy>
  <dcterms:modified xsi:type="dcterms:W3CDTF">2008-06-02T21:44:03Z</dcterms:modified>
  <cp:revision>63</cp:revision>
  <dc:subject/>
  <dc:title>Diapositiva 1</dc:title>
</cp:coreProperties>
</file>